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C9DB-7063-42CC-AE9B-B410D85B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A2C-A85B-4C30-BF89-CF0EF2C5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A5E-AF61-4192-A183-C10B83D6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0C0-FD67-4E8E-8B0F-491C504B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1AA-8CD0-4009-8B39-5090ACCB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D43D-442D-464E-829D-0D65B4F6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730C-CCCE-4D95-8DD2-484B3F49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43BD-5C82-452F-A4B0-93D97B4A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D5E-9C25-414C-B4EA-20220A94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B78-C15D-4F5E-9A69-3996EE59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101-A7D1-4D74-B507-1A2827D4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90B-93AF-4D13-828A-E82BA1B0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powerpoint slide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powerpoint slide 4.jpg"/>
          <p:cNvPicPr/>
          <p:nvPr/>
        </p:nvPicPr>
        <p:blipFill>
          <a:blip r:embed="rId2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EFA3-BF86-4905-A636-F583A9ADA2D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6460-22B6-456E-AF36-C38E239FED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powerpoint slide 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5429160" y="285840"/>
            <a:ext cx="2710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Verdana"/>
              </a:rPr>
              <a:t>Senio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powerpoint slide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powerpoint slide 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5429160" y="285840"/>
            <a:ext cx="2710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Verdana"/>
              </a:rPr>
              <a:t>Senio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285840" y="1071720"/>
            <a:ext cx="67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Scenario xxx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7143840" y="11430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Group 1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357120" y="1785960"/>
            <a:ext cx="4929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A day/week in the life of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3:45:17Z</dcterms:created>
  <dc:creator>M Jack</dc:creator>
  <dc:description/>
  <dc:language>en-US</dc:language>
  <cp:lastModifiedBy>JMH</cp:lastModifiedBy>
  <dcterms:modified xsi:type="dcterms:W3CDTF">2009-11-07T11:27:24Z</dcterms:modified>
  <cp:revision>148</cp:revision>
  <dc:subject/>
  <dc:title>Slide 1</dc:title>
</cp:coreProperties>
</file>